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F96-5D03-4DE1-B760-D651FB4F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5AF-10C0-4ACD-AD25-A4CA9F1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571-3A79-4061-AE9A-9AD98D88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A82-7A3A-45BF-BEE8-69132577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B858-D2CA-4CE2-A2C5-D4021990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C281-87E5-48B9-B8F7-D2FAE1A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2C6-994D-4AD9-A482-F921ECC5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BCE9-0EE0-4EDD-B43F-0A7D107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124-8F31-4E23-8489-3DCD0330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407A-5006-4397-AA8A-12A6518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F820-0152-42AA-948A-A83CDE8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471-BD66-4451-8158-9253773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80A6-A3A6-4DD5-A674-52BC3E88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9857-8DA9-430D-93EA-47877AF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AA8-54A5-452C-977D-C6805DD9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2CC0-3605-475B-860C-23C0861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221D-900C-4549-93C6-0F9652C4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B046-7F51-4AC0-B98B-9A451A4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6679-2843-4045-8458-A9731B5C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D4CF-76C8-4694-B78D-68E6EDF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7BBA-4D28-4847-8594-A021E38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3624-9F01-4EC7-BB43-F52342E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C63-BA3A-4FF0-BD46-1B96A53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3D7B-B3B3-4D62-9618-F6566270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EE2F-4A22-478C-8B51-D00B6AD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7C8A-0498-470E-9D7D-58F0C38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A805-27A8-49C7-A806-894D763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D788-7C56-4959-B72A-17D6A6B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0C2B-D74F-4071-A103-058E2BA8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4759-70B5-4E04-857A-28CCF22B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8A8A-1439-4FCA-8018-8EEB4492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CD30-73B0-413E-AA28-124A880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CCC5-95C1-4102-9872-4AEACD3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467-80A0-457F-93C7-73FD4AA9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EDDC-B359-4FA2-81F6-EDEFE82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3355-2537-4AE7-AFF0-13F45FD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425F-387D-4B47-994F-F0AB0FC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D2AE2-633F-4F7F-BAF3-94B2C98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1368-3432-48C5-8BD3-2885663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45B5-52B9-41C7-8E13-E6E255E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9302-D224-46B5-B354-ABA0DD2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D225-E1AE-4900-BCCE-568B22D5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FB81-E946-4006-B97E-CC09355E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FF57-CDFE-4022-A757-0805AF7C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ABB-BE7A-4547-91A6-5C252996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E2DA-F50D-4EF5-AB2F-5BC3DF2C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0A95-705C-4DB7-A862-A5BE55C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EB20-5A05-4A5B-8B66-25FD600B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0EFF-EAB0-4550-BACD-16EFCB3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C3F7-7CE9-4053-BD4D-719EF1F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740D-F368-47EB-95B9-CA94D7F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AE43-D649-4585-AD3A-0F99337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F1DD-20C4-4190-9539-2AAE73F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1185-1A7B-4F42-A9DC-E76D8B1F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F224-B992-46D0-854E-DE0AB3AF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972-2796-4118-9E5E-94032C3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E336-354B-4B5C-9CB2-FF27501C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8142-561D-4D0C-911A-2B2FDB96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9051-1AAF-4649-944D-9CD2ADED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4789-1B48-4CB3-8BA7-88CB0C2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01C0C-976A-4936-9D43-2FC7C44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C34F-059C-4896-858E-D3ABF44B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F12C-59A7-444C-84E1-47900F0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CD115-C8D8-4351-B53F-DD7B3D8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460C-31E9-4F03-841A-F1B9570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BCB66-6B07-4C87-9F8B-73E523D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B71-542C-40C1-B9A7-FD3DBBE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D316-0CC1-4C26-90EF-80FB173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9F3B-373D-4F30-AC9E-F01EA3C3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25A2-3FE4-403A-95B5-1144700B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941-19FD-43BB-B52C-7DED279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49D-27D0-4927-A879-E91359C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6EE-6B4F-4A45-A61F-DFE3757442FF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C34-39B7-439C-813E-8FFF208D114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9DA-55E2-4B41-874F-2E83B17F7934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19C-E5FC-47CB-AF9B-87CB618F1F9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E19E-7B10-40D7-BBC2-6F65D2662F0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889-9DDF-4865-8C79-F2E97BE1DD4D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Материал к уроку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итывая смысл данных ниже слов автора, придумайте прямую речь, вставьте ее на месте пропуска и запишите получившиеся предложения с прямой речью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робко проговорил ма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?» - тихо спросила 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– шепотом ответила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- громко крикнул брат и отворил д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взволнованно сказала 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уверенно произнес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место предложений с прямой речью запишите сложные предложения с союзом </a:t>
            </a:r>
            <a:r>
              <a:rPr b="1" lang="ru-RU" sz="2800" spc="-1" strike="noStrike">
                <a:solidFill>
                  <a:srgbClr val="672020"/>
                </a:solidFill>
                <a:latin typeface="Franklin Gothic Book"/>
              </a:rPr>
              <a:t>что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е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: «В первый четверг октября к нам в гости приедут артист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, </a:t>
            </a:r>
            <a:r>
              <a:rPr b="0" lang="ru-RU" sz="3600" spc="-1" strike="noStrike">
                <a:solidFill>
                  <a:srgbClr val="672020"/>
                </a:solidFill>
                <a:latin typeface="Arial"/>
              </a:rPr>
              <a:t>чт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ервый четверг октября к ним приедут арт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руководитель объявил нам: «В понедельник будет общешкольное собра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оста сказал: «Смотр художественной самодеятельности состоится в следующую сред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 писал: «Я вернусь из командировки не раньше воскресень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жатая предупредила нас: «Сбор макулатуры назначается на вторн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текст. Озаглавьте его, затем спишите, расставляя зна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обеда папа сел за какую-то книгу, но потом отложил ее в сторону и спросил Вася, как дела в школе. Изо всех сил Вася старался скрыть радостную улыбку. Он подал тетрадь и произнес Вчера был диктант. Вот, вернули с отметками. Отец перелистал несколько страниц и увидел пятерку.  И как же ты ошибок не наделал спросил папа. Со мной Нина сидит, а она, знаешь, как пишет похвастался Вася.  Вот оно что протянул отец. А потом добавил Значит, ты сегодня не свою, а чужую пятерку принес. Лицо у Васи стало растерянным и жалким, улыбки как не быв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Р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спомним основные схемы предложений с прямой речь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397160"/>
          <a:ext cx="7921440" cy="50036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!»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: «П!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?» –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?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»,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»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57" name="Управляющая кнопка: домой 4">
            <a:hlinkClick r:id="rId1" action="ppaction://hlinksldjump"/>
          </p:cNvPr>
          <p:cNvSpPr/>
          <p:nvPr/>
        </p:nvSpPr>
        <p:spPr>
          <a:xfrm>
            <a:off x="8028000" y="6093000"/>
            <a:ext cx="863640" cy="54900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3971" h="21600">
                <a:moveTo>
                  <a:pt x="0" y="0"/>
                </a:moveTo>
                <a:lnTo>
                  <a:pt x="33971" y="0"/>
                </a:lnTo>
                <a:lnTo>
                  <a:pt x="33971" y="21600"/>
                </a:lnTo>
                <a:lnTo>
                  <a:pt x="0" y="21600"/>
                </a:lnTo>
                <a:close/>
              </a:path>
              <a:path fill="lightenLess" w="33971" h="21600">
                <a:moveTo>
                  <a:pt x="0" y="0"/>
                </a:moveTo>
                <a:lnTo>
                  <a:pt x="33971" y="0"/>
                </a:lnTo>
                <a:lnTo>
                  <a:pt x="32571" y="1400"/>
                </a:lnTo>
                <a:lnTo>
                  <a:pt x="1400" y="1400"/>
                </a:lnTo>
                <a:close/>
              </a:path>
              <a:path fill="darken" w="33971" h="21600">
                <a:moveTo>
                  <a:pt x="33971" y="0"/>
                </a:moveTo>
                <a:lnTo>
                  <a:pt x="33971" y="21600"/>
                </a:lnTo>
                <a:lnTo>
                  <a:pt x="32571" y="20200"/>
                </a:lnTo>
                <a:lnTo>
                  <a:pt x="32571" y="1400"/>
                </a:lnTo>
                <a:close/>
              </a:path>
              <a:path fill="darkenLess" w="33971" h="21600">
                <a:moveTo>
                  <a:pt x="3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1" y="20200"/>
                </a:lnTo>
                <a:close/>
              </a:path>
              <a:path fill="lighten" w="3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71" h="21600">
                <a:moveTo>
                  <a:pt x="16986" y="3837"/>
                </a:moveTo>
                <a:lnTo>
                  <a:pt x="19562" y="6448"/>
                </a:ln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lnTo>
                  <a:pt x="23949" y="10800"/>
                </a:lnTo>
                <a:lnTo>
                  <a:pt x="22295" y="10800"/>
                </a:lnTo>
                <a:lnTo>
                  <a:pt x="22295" y="17989"/>
                </a:lnTo>
                <a:lnTo>
                  <a:pt x="11676" y="17989"/>
                </a:lnTo>
                <a:lnTo>
                  <a:pt x="11676" y="10800"/>
                </a:lnTo>
                <a:lnTo>
                  <a:pt x="10023" y="10800"/>
                </a:lnTo>
                <a:close/>
              </a:path>
              <a:path fill="darkenLess" w="33971" h="21600">
                <a:moveTo>
                  <a:pt x="19562" y="6448"/>
                </a:move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close/>
              </a:path>
              <a:path fill="darkenLess" w="33971" h="21600">
                <a:moveTo>
                  <a:pt x="16063" y="14299"/>
                </a:moveTo>
                <a:lnTo>
                  <a:pt x="17908" y="14299"/>
                </a:lnTo>
                <a:lnTo>
                  <a:pt x="17908" y="17989"/>
                </a:lnTo>
                <a:lnTo>
                  <a:pt x="22295" y="17989"/>
                </a:lnTo>
                <a:lnTo>
                  <a:pt x="22295" y="10800"/>
                </a:lnTo>
                <a:lnTo>
                  <a:pt x="11676" y="10800"/>
                </a:lnTo>
                <a:lnTo>
                  <a:pt x="11676" y="17989"/>
                </a:lnTo>
                <a:lnTo>
                  <a:pt x="16063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предложения из книг Э.Успенского. Составьте их схемы. Объясните постановку знаков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ам, наверное, нужны друзья?» - спросил обезьянку Крокоди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вашем объявлении целых три ошибки», - сказала девоч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 может быть!» - воскликну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ушка уселась на стул и спросила: «Кто из вас будет Крокоди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называются выделенные слова? Объясните постановку знаков препинания при ни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628280"/>
            <a:ext cx="80647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просил: «Можете ли вы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уважаемый людое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евратиться в зверька помень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оед ответил: «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Конеч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мог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казал: «Тогда превратитесь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пожалуй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мышь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324000" y="404640"/>
            <a:ext cx="86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предшествовала словам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следовала за словами авто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191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Где же река?» – спросил я у Са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он там за лесом», - ответил он, указывая рукой вда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Как далеко!» - огорчился 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 словах автора выделены глаголы. При списывании подчеркните тот глагол, который вводит прямую речь в высказывание. Поставьте пропущенны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413000"/>
            <a:ext cx="864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едя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..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а обл..ка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каза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Гроза буд..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н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отв..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ашу в стор..ну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оси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 разве Саша Коншаков не р..ботает с ва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ш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дб..жа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к дедушке и ро..ко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..сил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душка а когда же землю начнем к..п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ньк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о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 поле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роизнес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есна-то какая Маш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33200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д обращением поставьте букву 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Миша Лентяйкин пришел в школу довольный. «Вот какой рассказ я написал!» - похвастался он. Давайте прочтем его вместе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апа спросил у Васи: «Сегодня мы пойдем в музей». Вася обрадовался и ответил: «А в какой?» «В исторический», - громко закричал папа. «Ура! – поинтересовался Вася. – Я никогда там не был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автракав, они поехали в музей. «Что мы там увидим?» - рассказал Вася папе. «Многое, - задал вопрос отец. – Увидим, как жили люди в древности, какие носили наряды, какое у них было оружие. Увидишь сам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Управляющая кнопка: далее 3">
            <a:hlinkClick r:id="rId1" action="ppaction://hlinksldjump"/>
          </p:cNvPr>
          <p:cNvSpPr/>
          <p:nvPr/>
        </p:nvSpPr>
        <p:spPr>
          <a:xfrm>
            <a:off x="788508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ажется ли вам Мишин текст смешным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мотрел на рассказ его приятель Дима Пятеркин, покачал головой и стал исправлять. Запишите и вы Мишин рассказ в исправленном виде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276720" y="558972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3400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457200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иться к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думайте прямую речь и вставьте ее на месте пропуска. Запишите получившиеся предложения с прямой речью, расставьт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спрос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ректор говорил 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жатый сказал 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журный рассказал 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жий обратился с вопросом к ребятам 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ьчик воскликнул 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ароста объяв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ир группы скомандовал 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667640" y="6021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21220" y="10800"/>
                </a:moveTo>
                <a:lnTo>
                  <a:pt x="31725" y="3794"/>
                </a:lnTo>
                <a:lnTo>
                  <a:pt x="31725" y="17806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19375" y="3794"/>
                </a:lnTo>
                <a:lnTo>
                  <a:pt x="19375" y="17806"/>
                </a:lnTo>
                <a:lnTo>
                  <a:pt x="177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3:57Z</dcterms:modified>
  <cp:revision>80</cp:revision>
  <dc:subject/>
  <dc:title>Слайд 1</dc:title>
</cp:coreProperties>
</file>